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2037-CE47-41BB-BBA4-E06D9278AC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C3EFB-5909-4609-A522-A6BD1C2B5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258D3-21C7-449A-A57A-058D62931C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C6539-9BFF-4D58-A552-B234E2EA6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ACA7-F40F-40C3-8897-C19B2AEE5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5401-55DE-4B7D-8020-01185008F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935AC-CB5E-4F2A-9279-CF2053A9A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DEF20-AD70-41EF-AF23-74926FEA8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01527-9D9B-493D-B62D-E8B46D15D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8F9F0-0344-4AD9-8697-2560F50E9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298102-AB9D-4F7E-AF78-FCB35F4E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EA06-BF87-4148-A3F7-E02998EA9A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6708A-7149-4B98-9D0A-B815A30FF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C1FFB-3A92-42B5-9689-A6CAC07A3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752CA-D41F-401A-A627-5CF947E40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FA9F7-5D7A-4704-BB2D-B2B84F4AA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3F386-B70F-4C93-87A8-42CCBF3BB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A2CEE-73A7-4920-B58B-5BCBAB30F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5B1F13-E472-4B0D-B460-07412B49C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05A46EC-51E1-4E5C-9E99-B69DAD891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9604E-5462-4681-965F-6C31569B75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B216B7-2D1F-4409-962A-53E896EC37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43F023-7C40-478C-8730-9DA5290E7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61D5ED-EAB6-4D44-B0D7-FFB37565B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48E934-A44A-462E-9F5D-EB7936C93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D7EB28-ADAD-4403-A055-7DF9C1878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C68F3B-DF01-4910-A8A0-DEA9B21D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CEB8A3-20A2-4A59-A8CC-580F1FECB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FFAC39-2D9E-43FC-8CFD-664E8909D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CF7903-69B1-425B-98FC-7013B02D4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D473F2-D4E3-41A5-8ABB-3011F84AFA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422AB-0EB7-4F3E-8D35-2F7BF9909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ADAC0-2011-4C6B-A1DC-436B3E93F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E66A-C6B0-4CEA-B690-ED08B591A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3DA1-E980-4432-B0A5-229123276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AD993-A2BA-4AB6-BCCA-2B22DAB19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5AB9-C282-4937-8D97-D59B27212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6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17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AD281-B579-48AD-B624-E130804228A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66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9298F-EC12-41CA-B081-FE3F1FC2125B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al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true lif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y: Ruthie Bolt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aramond"/>
              </a:rPr>
              <a:t>About Ruthie Bolton</a:t>
            </a:r>
            <a:endParaRPr b="0" lang="en-US" sz="4400" spc="-1" strike="noStrike">
              <a:solidFill>
                <a:srgbClr val="000000"/>
              </a:solidFill>
              <a:latin typeface="Garamond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She was born January 6, 1961 Hungry Neck, a section in Charleston, South Carolina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Her mother died in a fire accident by a dope seller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Bradley Hand IT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Bradley Hand ITC"/>
              </a:rPr>
              <a:t>Her grandmother died because of abuse.</a:t>
            </a: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6T13:32:19Z</dcterms:created>
  <dc:creator>tchs</dc:creator>
  <dc:description/>
  <dc:language>en-US</dc:language>
  <cp:lastModifiedBy>tchs</cp:lastModifiedBy>
  <dcterms:modified xsi:type="dcterms:W3CDTF">2007-04-06T13:39:47Z</dcterms:modified>
  <cp:revision>2</cp:revision>
  <dc:subject/>
  <dc:title>Gal  a true life</dc:title>
</cp:coreProperties>
</file>